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78625" cy="9478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778800" cy="947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5"/>
          </p:nvPr>
        </p:nvSpPr>
        <p:spPr>
          <a:xfrm>
            <a:off x="3839760" y="0"/>
            <a:ext cx="293868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022040" y="712440"/>
            <a:ext cx="4738680" cy="35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02880" y="4500720"/>
            <a:ext cx="4971960" cy="4265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6"/>
          </p:nvPr>
        </p:nvSpPr>
        <p:spPr>
          <a:xfrm>
            <a:off x="0" y="9007200"/>
            <a:ext cx="2938320" cy="471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7"/>
          </p:nvPr>
        </p:nvSpPr>
        <p:spPr>
          <a:xfrm>
            <a:off x="3839760" y="9007200"/>
            <a:ext cx="2938680" cy="471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1A5FFA7-FC83-4646-9010-B91EC6910F6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39760" y="9007200"/>
            <a:ext cx="2938680" cy="471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A5B8D83-EA82-45FF-A230-38B276408C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007200"/>
            <a:ext cx="2938320" cy="471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293832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39760" y="0"/>
            <a:ext cx="293868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22400" y="711360"/>
            <a:ext cx="4736880" cy="3552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7880" y="4500360"/>
            <a:ext cx="5423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39760" y="9007200"/>
            <a:ext cx="2938680" cy="471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4E59A1E-A21E-4D1D-94C5-EDF19B4821D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9007200"/>
            <a:ext cx="2938320" cy="471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293832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39760" y="0"/>
            <a:ext cx="293868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22400" y="711360"/>
            <a:ext cx="4736880" cy="3552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7880" y="4500360"/>
            <a:ext cx="5423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5560" y="3905280"/>
            <a:ext cx="8218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5560" y="390528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96840" y="390528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164400" y="119700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2880" y="119700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5560" y="390528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164400" y="390528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2880" y="390528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3FCF9-B9ED-4878-95AC-B4BA5340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85560" y="1197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ADC16-20FE-4CD1-8674-9EC7219F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F4DDE-8650-4121-B596-209FB6CA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2E4CA-08FD-499A-835C-B7BAEE7D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8B89A-77E8-493F-827D-688FC6D0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BEA1C-2F4E-43DF-9684-8F6518F9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5560" y="390528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7B447-CAEE-4913-B79E-1C11D50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85560" y="1197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96840" y="390528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CE0B8-021F-4B29-92F0-BCDBD249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5560" y="3905280"/>
            <a:ext cx="8218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12883-98F8-49AD-B2B8-A87E931F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5560" y="3905280"/>
            <a:ext cx="8218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D9714-A453-47A7-AF16-FC695412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5560" y="390528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96840" y="390528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A2FC0-97BB-4E3A-8F1B-CD03E842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64400" y="119700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42880" y="119700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85560" y="390528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164400" y="390528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942880" y="3905280"/>
            <a:ext cx="2646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E58C4-9AE2-4BA4-9BAF-DEF69045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5560" y="390528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96840" y="390528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5560" y="3905280"/>
            <a:ext cx="8218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38280" y="6576480"/>
            <a:ext cx="24476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12920" y="257040"/>
            <a:ext cx="8731080" cy="262080"/>
          </a:xfrm>
          <a:prstGeom prst="rect">
            <a:avLst/>
          </a:prstGeom>
          <a:gradFill rotWithShape="0">
            <a:gsLst>
              <a:gs pos="0">
                <a:srgbClr val="f3f3ff"/>
              </a:gs>
              <a:gs pos="100000">
                <a:srgbClr val="32329c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7560" y="257040"/>
            <a:ext cx="139680" cy="13500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680" y="390600"/>
            <a:ext cx="136440" cy="131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1760" y="258840"/>
            <a:ext cx="141120" cy="131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8520"/>
            <a:ext cx="687240" cy="507960"/>
            <a:chOff x="0" y="128520"/>
            <a:chExt cx="687240" cy="507960"/>
          </a:xfrm>
        </p:grpSpPr>
        <p:sp>
          <p:nvSpPr>
            <p:cNvPr id="6" name=""/>
            <p:cNvSpPr/>
            <p:nvPr/>
          </p:nvSpPr>
          <p:spPr>
            <a:xfrm>
              <a:off x="0" y="128520"/>
              <a:ext cx="285840" cy="507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09680" y="257040"/>
              <a:ext cx="137880" cy="1350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28520"/>
              <a:ext cx="139680" cy="13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387360"/>
              <a:ext cx="137880" cy="13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74680" y="519120"/>
            <a:ext cx="136440" cy="1303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85560" y="1197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ae5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"/>
          <p:cNvSpPr/>
          <p:nvPr/>
        </p:nvSpPr>
        <p:spPr>
          <a:xfrm>
            <a:off x="5940360" y="6524640"/>
            <a:ext cx="26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ae5d"/>
                </a:solidFill>
                <a:latin typeface="Verdana"/>
              </a:rPr>
              <a:t>Diversity Preservation in 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4789440" y="6597720"/>
            <a:ext cx="358560" cy="71280"/>
            <a:chOff x="4789440" y="6597720"/>
            <a:chExt cx="358560" cy="71280"/>
          </a:xfrm>
        </p:grpSpPr>
        <p:sp>
          <p:nvSpPr>
            <p:cNvPr id="14" name=""/>
            <p:cNvSpPr/>
            <p:nvPr/>
          </p:nvSpPr>
          <p:spPr>
            <a:xfrm>
              <a:off x="4789440" y="6597720"/>
              <a:ext cx="71280" cy="71280"/>
            </a:xfrm>
            <a:prstGeom prst="rect">
              <a:avLst/>
            </a:prstGeom>
            <a:solidFill>
              <a:srgbClr val="ffd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933800" y="6597720"/>
              <a:ext cx="71280" cy="71280"/>
            </a:xfrm>
            <a:prstGeom prst="rect">
              <a:avLst/>
            </a:prstGeom>
            <a:solidFill>
              <a:srgbClr val="ffd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076720" y="6597720"/>
              <a:ext cx="71280" cy="71280"/>
            </a:xfrm>
            <a:prstGeom prst="rect">
              <a:avLst/>
            </a:prstGeom>
            <a:solidFill>
              <a:srgbClr val="ffd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"/>
          <p:cNvSpPr/>
          <p:nvPr/>
        </p:nvSpPr>
        <p:spPr>
          <a:xfrm flipH="1">
            <a:off x="539640" y="6597720"/>
            <a:ext cx="4176720" cy="144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179280" y="6616800"/>
            <a:ext cx="936720" cy="241200"/>
            <a:chOff x="179280" y="6616800"/>
            <a:chExt cx="936720" cy="241200"/>
          </a:xfrm>
        </p:grpSpPr>
        <p:sp>
          <p:nvSpPr>
            <p:cNvPr id="19" name=""/>
            <p:cNvSpPr/>
            <p:nvPr/>
          </p:nvSpPr>
          <p:spPr>
            <a:xfrm>
              <a:off x="250920" y="6638760"/>
              <a:ext cx="792000" cy="217800"/>
            </a:xfrm>
            <a:prstGeom prst="rect">
              <a:avLst/>
            </a:prstGeom>
            <a:gradFill rotWithShape="0">
              <a:gsLst>
                <a:gs pos="0">
                  <a:srgbClr val="fee4cb"/>
                </a:gs>
                <a:gs pos="100000">
                  <a:srgbClr val="ffd9b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9280" y="6616800"/>
              <a:ext cx="936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D976F0E-9260-4F08-8EAE-A714CF7C5AAF}" type="slidenum"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FC82-B298-4378-A761-FC071318B5CC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ffae5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39640" y="1828800"/>
            <a:ext cx="6651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iversity Preservation in Evolutionary Algorithms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Jiří Kubalí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Intelligent Data Analys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partment of Cyberne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TU Pra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1197000"/>
            <a:ext cx="4483080" cy="2709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tatic Test Problem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338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Multimodal probl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99160" y="1380960"/>
            <a:ext cx="3348000" cy="2335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334120" y="4024440"/>
            <a:ext cx="2971800" cy="2344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952880" y="114300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Deceptive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759120"/>
            <a:ext cx="403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Hierarchical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33520" y="4495680"/>
            <a:ext cx="4190760" cy="103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11948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Royal Road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RB: Results on Static Problem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95280" y="1122480"/>
            <a:ext cx="3795840" cy="2674800"/>
            <a:chOff x="395280" y="1122480"/>
            <a:chExt cx="3795840" cy="26748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95280" y="1122480"/>
              <a:ext cx="3795840" cy="26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19280" y="1952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Verdana"/>
                </a:rPr>
                <a:t>decep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460200" y="4724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132000" y="1989000"/>
            <a:ext cx="3794400" cy="2655720"/>
            <a:chOff x="3132000" y="1989000"/>
            <a:chExt cx="3794400" cy="265572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132000" y="1989000"/>
              <a:ext cx="3794400" cy="26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356000" y="28130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Verdana"/>
                </a:rPr>
                <a:t>hierarch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019840" y="3424320"/>
            <a:ext cx="3800160" cy="2957400"/>
            <a:chOff x="5019840" y="3424320"/>
            <a:chExt cx="3800160" cy="295740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5019840" y="3424320"/>
              <a:ext cx="3800160" cy="29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156360" y="456876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Verdana"/>
                </a:rPr>
                <a:t>multimo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ngle Gene Diversity Monitor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148840" y="15271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F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98720" y="1504800"/>
            <a:ext cx="5452920" cy="4202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16200000">
            <a:off x="308160" y="33224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Hierarchical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GARB: Tracking Moving Optimu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5280" y="1500120"/>
            <a:ext cx="3889440" cy="3487680"/>
            <a:chOff x="395280" y="1500120"/>
            <a:chExt cx="3889440" cy="348768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395280" y="1916280"/>
              <a:ext cx="3889440" cy="30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324440" y="15001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Verdana"/>
                </a:rPr>
                <a:t>Moving opti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716360" y="1484280"/>
            <a:ext cx="3936960" cy="3527280"/>
            <a:chOff x="4716360" y="1484280"/>
            <a:chExt cx="3936960" cy="3527280"/>
          </a:xfrm>
        </p:grpSpPr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4716360" y="1868400"/>
              <a:ext cx="393696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545800" y="1484280"/>
              <a:ext cx="248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Verdana"/>
                </a:rPr>
                <a:t>Population divers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RB: Results on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napsack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rob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2968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1280" y="1197000"/>
            <a:ext cx="784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Verdana"/>
              </a:rPr>
              <a:t>Oscillating Knapsack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4 obj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ts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=2</a:t>
            </a:r>
            <a:r>
              <a:rPr b="0" i="1" lang="cs-CZ" sz="1600" spc="-1" strike="noStrike" baseline="30000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, i=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,...,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)=1/(1+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target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cc"/>
                </a:solidFill>
                <a:latin typeface="Verdana"/>
              </a:rPr>
              <a:t>Target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osci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s between two values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600" spc="-1" strike="noStrike">
                <a:solidFill>
                  <a:srgbClr val="0000cc"/>
                </a:solidFill>
                <a:latin typeface="Verdana"/>
              </a:rPr>
              <a:t>12643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d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600" spc="-1" strike="noStrike">
                <a:solidFill>
                  <a:srgbClr val="0000cc"/>
                </a:solidFill>
                <a:latin typeface="Verdana"/>
              </a:rPr>
              <a:t>2837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ch differ in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9 b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RB: Recovering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from Homog. Stat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770120"/>
            <a:ext cx="4537080" cy="3027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753080" y="1776240"/>
            <a:ext cx="4356000" cy="3092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23720" y="157644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D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72240" y="157644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K</a:t>
            </a:r>
            <a:r>
              <a:rPr b="1" lang="cs-CZ" sz="2000" spc="-1" strike="noStrike">
                <a:solidFill>
                  <a:srgbClr val="0000cc"/>
                </a:solidFill>
                <a:latin typeface="Verdana"/>
              </a:rPr>
              <a:t>napsack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As and Premature Convergen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54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</a:rPr>
              <a:t>Evolutionary cycle</a:t>
            </a:r>
            <a:r>
              <a:rPr b="1" lang="en-GB" sz="20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</a:rPr>
              <a:t>Homogeneous pop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</a:rPr>
              <a:t>Premature convergenc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- as the population gets homogeneous, only a little new can be evolved and EA converges to suboptimal solu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</a:rPr>
              <a:t>Causes</a:t>
            </a:r>
            <a:r>
              <a:rPr b="0" lang="en-GB" sz="2000" spc="-1" strike="noStrike">
                <a:solidFill>
                  <a:srgbClr val="0000cc"/>
                </a:solidFill>
                <a:latin typeface="Tahoma"/>
              </a:rPr>
              <a:t> of premature convergence</a:t>
            </a:r>
            <a:r>
              <a:rPr b="0" lang="en-GB" sz="2000" spc="-1" strike="noStrike">
                <a:solidFill>
                  <a:srgbClr val="00007d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mproper representation and genetic operators, improper selection pressure, insufficient population size, de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4360" y="1517760"/>
            <a:ext cx="7200720" cy="2363760"/>
            <a:chOff x="684360" y="1517760"/>
            <a:chExt cx="7200720" cy="23637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5364000" y="1521000"/>
              <a:ext cx="2521080" cy="23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84360" y="1517760"/>
              <a:ext cx="3743280" cy="2349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GA with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al-coded Binary Rep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Motiv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redundant represent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where many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different genotypes map to the same pheno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ould increase the explorative power of the EA and decrease the probability of getting stuck in a local optim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Re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l coded binary re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Eff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pulation can not converge to the homogeneous state so that the premature convergence can not take 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Pseudo-bin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ary</a:t>
            </a: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r</a:t>
            </a: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ep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resentation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nary gene values coded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by real numb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from the interval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0.0, 1.0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0"/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ourier New"/>
              </a:rPr>
              <a:t>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0.92 0.07 0.23 0.6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ourier New"/>
              </a:rPr>
              <a:t>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0.65 0.19 0.41 0.8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1800" spc="-1" strike="noStrike">
                <a:solidFill>
                  <a:srgbClr val="0000cc"/>
                </a:solidFill>
                <a:latin typeface="Courier New"/>
              </a:rPr>
              <a:t>interpreta</a:t>
            </a:r>
            <a:r>
              <a:rPr b="0" i="1" lang="en-US" sz="1800" spc="-1" strike="noStrike">
                <a:solidFill>
                  <a:srgbClr val="0000cc"/>
                </a:solidFill>
                <a:latin typeface="Courier New"/>
              </a:rPr>
              <a:t>tion</a:t>
            </a:r>
            <a:r>
              <a:rPr b="0" lang="cs-CZ" sz="1800" spc="-1" strike="noStrike">
                <a:solidFill>
                  <a:srgbClr val="0000cc"/>
                </a:solidFill>
                <a:latin typeface="Courier New"/>
              </a:rPr>
              <a:t>(</a:t>
            </a:r>
            <a:r>
              <a:rPr b="0" i="1" lang="cs-CZ" sz="1800" spc="-1" strike="noStrike">
                <a:solidFill>
                  <a:srgbClr val="0000cc"/>
                </a:solidFill>
                <a:latin typeface="Courier New"/>
              </a:rPr>
              <a:t>ch</a:t>
            </a:r>
            <a:r>
              <a:rPr b="0" lang="cs-CZ" sz="1800" spc="-1" strike="noStrike" baseline="-25000">
                <a:solidFill>
                  <a:srgbClr val="0000cc"/>
                </a:solidFill>
                <a:latin typeface="Courier New"/>
              </a:rPr>
              <a:t>1</a:t>
            </a:r>
            <a:r>
              <a:rPr b="0" lang="cs-CZ" sz="1800" spc="-1" strike="noStrike">
                <a:solidFill>
                  <a:srgbClr val="0000cc"/>
                </a:solidFill>
                <a:latin typeface="Courier New"/>
              </a:rPr>
              <a:t>)=</a:t>
            </a:r>
            <a:r>
              <a:rPr b="0" i="1" lang="cs-CZ" sz="1800" spc="-1" strike="noStrike">
                <a:solidFill>
                  <a:srgbClr val="0000cc"/>
                </a:solidFill>
                <a:latin typeface="Courier New"/>
              </a:rPr>
              <a:t>interpreta</a:t>
            </a:r>
            <a:r>
              <a:rPr b="0" i="1" lang="en-US" sz="1800" spc="-1" strike="noStrike">
                <a:solidFill>
                  <a:srgbClr val="0000cc"/>
                </a:solidFill>
                <a:latin typeface="Courier New"/>
              </a:rPr>
              <a:t>tion</a:t>
            </a:r>
            <a:r>
              <a:rPr b="0" lang="cs-CZ" sz="1800" spc="-1" strike="noStrike">
                <a:solidFill>
                  <a:srgbClr val="0000cc"/>
                </a:solidFill>
                <a:latin typeface="Courier New"/>
              </a:rPr>
              <a:t>(</a:t>
            </a:r>
            <a:r>
              <a:rPr b="0" i="1" lang="cs-CZ" sz="1800" spc="-1" strike="noStrike">
                <a:solidFill>
                  <a:srgbClr val="0000cc"/>
                </a:solidFill>
                <a:latin typeface="Courier New"/>
              </a:rPr>
              <a:t>ch</a:t>
            </a:r>
            <a:r>
              <a:rPr b="0" lang="cs-CZ" sz="1800" spc="-1" strike="noStrike" baseline="-25000">
                <a:solidFill>
                  <a:srgbClr val="0000cc"/>
                </a:solidFill>
                <a:latin typeface="Courier New"/>
              </a:rPr>
              <a:t>2</a:t>
            </a:r>
            <a:r>
              <a:rPr b="0" lang="cs-CZ" sz="1800" spc="-1" strike="noStrike">
                <a:solidFill>
                  <a:srgbClr val="0000cc"/>
                </a:solidFill>
                <a:latin typeface="Courier New"/>
              </a:rPr>
              <a:t>)=</a:t>
            </a:r>
            <a:r>
              <a:rPr b="0" lang="en-US" sz="1800" spc="-1" strike="noStrike">
                <a:solidFill>
                  <a:srgbClr val="0000cc"/>
                </a:solidFill>
                <a:latin typeface="Courier New"/>
              </a:rPr>
              <a:t>[</a:t>
            </a:r>
            <a:r>
              <a:rPr b="0" lang="cs-CZ" sz="1800" spc="-1" strike="noStrike">
                <a:solidFill>
                  <a:srgbClr val="0000cc"/>
                </a:solidFill>
                <a:latin typeface="Courier New"/>
              </a:rPr>
              <a:t>1001</a:t>
            </a:r>
            <a:r>
              <a:rPr b="0" lang="en-US" sz="1800" spc="-1" strike="noStrike">
                <a:solidFill>
                  <a:srgbClr val="0000cc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Gene strength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’s stability meas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6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oser the real value is to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0.5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weaker the gene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6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-valued genes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“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0.9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0.86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0.65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0.6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6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341316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ro-valued genes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“: 0.07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0.19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0.23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0.4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RB: Representation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3809880" cy="9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RB: Gene-strength Adapt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Every offspring gene is adjust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pending 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s interpre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relative frequency of ones at given position in the popula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Vector P[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tores the population stat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.: 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0.82 0.17 0.35 0.68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8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% of ones at the first position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% of ones at the second position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% of ones at the third position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8% of ones at the fourth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RB: Gene-strength Adaptation cn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5560" y="1125360"/>
            <a:ext cx="8218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466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-valued ge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466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gen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e’</a:t>
            </a: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 =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gen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e </a:t>
            </a: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+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c*(1.0-P[i])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weake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466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429"/>
                </a:solidFill>
                <a:latin typeface="Tahoma"/>
              </a:rPr>
              <a:t>g</a:t>
            </a:r>
            <a:r>
              <a:rPr b="1" lang="cs-CZ" sz="1800" spc="-1" strike="noStrike">
                <a:solidFill>
                  <a:srgbClr val="ff9429"/>
                </a:solidFill>
                <a:latin typeface="Tahoma"/>
              </a:rPr>
              <a:t>en</a:t>
            </a:r>
            <a:r>
              <a:rPr b="1" lang="en-US" sz="1800" spc="-1" strike="noStrike">
                <a:solidFill>
                  <a:srgbClr val="ff9429"/>
                </a:solidFill>
                <a:latin typeface="Tahoma"/>
              </a:rPr>
              <a:t>e’</a:t>
            </a:r>
            <a:r>
              <a:rPr b="1" lang="cs-CZ" sz="1800" spc="-1" strike="noStrike">
                <a:solidFill>
                  <a:srgbClr val="ff9429"/>
                </a:solidFill>
                <a:latin typeface="Tahoma"/>
              </a:rPr>
              <a:t> = gen</a:t>
            </a:r>
            <a:r>
              <a:rPr b="1" lang="en-US" sz="1800" spc="-1" strike="noStrike">
                <a:solidFill>
                  <a:srgbClr val="ff9429"/>
                </a:solidFill>
                <a:latin typeface="Tahoma"/>
              </a:rPr>
              <a:t>e</a:t>
            </a:r>
            <a:r>
              <a:rPr b="1" lang="cs-CZ" sz="1800" spc="-1" strike="noStrike">
                <a:solidFill>
                  <a:srgbClr val="ff9429"/>
                </a:solidFill>
                <a:latin typeface="Tahoma"/>
              </a:rPr>
              <a:t> – c*P[i]</a:t>
            </a:r>
            <a:r>
              <a:rPr b="1" lang="en-US" sz="1800" spc="-1" strike="noStrike">
                <a:solidFill>
                  <a:srgbClr val="ff9429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9429"/>
                </a:solidFill>
                <a:latin typeface="Tahoma"/>
              </a:rPr>
              <a:t>strengthe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4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466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-valued ge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466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gen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e’</a:t>
            </a: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 =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gen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e </a:t>
            </a: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+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c*(1.0-P[i])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strengthe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466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429"/>
                </a:solidFill>
                <a:latin typeface="Tahoma"/>
              </a:rPr>
              <a:t>g</a:t>
            </a:r>
            <a:r>
              <a:rPr b="1" lang="cs-CZ" sz="1800" spc="-1" strike="noStrike">
                <a:solidFill>
                  <a:srgbClr val="ff9429"/>
                </a:solidFill>
                <a:latin typeface="Tahoma"/>
              </a:rPr>
              <a:t>en</a:t>
            </a:r>
            <a:r>
              <a:rPr b="1" lang="en-US" sz="1800" spc="-1" strike="noStrike">
                <a:solidFill>
                  <a:srgbClr val="ff9429"/>
                </a:solidFill>
                <a:latin typeface="Tahoma"/>
              </a:rPr>
              <a:t>e’</a:t>
            </a:r>
            <a:r>
              <a:rPr b="1" lang="cs-CZ" sz="1800" spc="-1" strike="noStrike">
                <a:solidFill>
                  <a:srgbClr val="ff9429"/>
                </a:solidFill>
                <a:latin typeface="Tahoma"/>
              </a:rPr>
              <a:t> = gen</a:t>
            </a:r>
            <a:r>
              <a:rPr b="1" lang="en-US" sz="1800" spc="-1" strike="noStrike">
                <a:solidFill>
                  <a:srgbClr val="ff9429"/>
                </a:solidFill>
                <a:latin typeface="Tahoma"/>
              </a:rPr>
              <a:t>e</a:t>
            </a:r>
            <a:r>
              <a:rPr b="1" lang="cs-CZ" sz="1800" spc="-1" strike="noStrike">
                <a:solidFill>
                  <a:srgbClr val="ff9429"/>
                </a:solidFill>
                <a:latin typeface="Tahoma"/>
              </a:rPr>
              <a:t> – c*P[i]</a:t>
            </a:r>
            <a:r>
              <a:rPr b="1" lang="en-US" sz="1800" spc="-1" strike="noStrike">
                <a:solidFill>
                  <a:srgbClr val="ff9429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9429"/>
                </a:solidFill>
                <a:latin typeface="Tahoma"/>
              </a:rPr>
              <a:t>weake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87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66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tands for a maximal gene-adaptation step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: c</a:t>
            </a:r>
            <a:r>
              <a:rPr b="0" i="1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0.0,0.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87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66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 value interpreted with above-average frequency at given position in the chromosome is weakened, the other one is strengthened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RB: Gene-Strength Adaptation cn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74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Eff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some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allele begines to prevai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the population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spcBef>
                <a:spcPts val="601"/>
              </a:spcBef>
              <a:buClr>
                <a:srgbClr val="ffae5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rresponding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genes are weaken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subsequent generation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spcBef>
                <a:spcPts val="601"/>
              </a:spcBef>
              <a:buClr>
                <a:srgbClr val="ffae5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some point they are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moved to the other side of the threshold 0.5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spcBef>
                <a:spcPts val="601"/>
              </a:spcBef>
              <a:buClr>
                <a:srgbClr val="ffae5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that they change their interpretation and the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frequency of the allele decreases</a:t>
            </a:r>
            <a:r>
              <a:rPr b="1" lang="en-US" sz="1800" spc="-1" strike="noStrike">
                <a:solidFill>
                  <a:srgbClr val="00007d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equency of a given allele is controled by</a:t>
            </a:r>
            <a:r>
              <a:rPr b="1" lang="en-US" sz="18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contradictory pressur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spcBef>
                <a:spcPts val="601"/>
              </a:spcBef>
              <a:buClr>
                <a:srgbClr val="ffae5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convergen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ptimal solution pressure an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spcBef>
                <a:spcPts val="601"/>
              </a:spcBef>
              <a:buClr>
                <a:srgbClr val="ffae5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opulation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diversity preserv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essur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RB: Boosting-up the Exploit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5560" y="1417320"/>
            <a:ext cx="82184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otype of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promising solutions should be stabiliz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subsequent gene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order to disable rapid changes in their genotype interpre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ly generated solutions that are better than their par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genes are resca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strengthened) - zero-valued genes are set to be close to 0.0 and one-valued genes are set to be close to 1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cs-CZ" sz="1900" spc="-1" strike="noStrike">
                <a:solidFill>
                  <a:srgbClr val="000000"/>
                </a:solidFill>
                <a:latin typeface="Courier New"/>
              </a:rPr>
              <a:t>ch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= (0.71, 0.45, 0.18, 0.57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cs-CZ" sz="1900" spc="-1" strike="noStrike">
                <a:solidFill>
                  <a:srgbClr val="000000"/>
                </a:solidFill>
                <a:latin typeface="Courier New"/>
              </a:rPr>
              <a:t>ch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’= (0.97,</a:t>
            </a:r>
            <a:r>
              <a:rPr b="0" lang="cs-CZ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0.03, 0.02, 0.99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vive with uchanged interpretation through more genera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RB: Algorith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1219320"/>
            <a:ext cx="663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ialize(OldP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calculate P[] from OldP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Parents from OldP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erate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adjust Children 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aluate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Child is better than Pa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rescale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ert Children to NewP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til NewPop is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 OldPop and NewP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til termination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92160"/>
                <a:tab algn="l" pos="160956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6:10:00Z</dcterms:created>
  <dc:creator>Jiri Kubalik</dc:creator>
  <dc:description/>
  <dc:language>en-US</dc:language>
  <cp:lastModifiedBy>Jiri Kubalik</cp:lastModifiedBy>
  <dcterms:modified xsi:type="dcterms:W3CDTF">2010-03-09T09:32:51Z</dcterms:modified>
  <cp:revision>300</cp:revision>
  <dc:subject/>
  <dc:title>Slide 1</dc:title>
</cp:coreProperties>
</file>